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5330-BD93-4FAE-B418-7F644E12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4C3-143B-4328-8A56-2772318E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BA30-C1E8-43E8-A4E3-BE9BF65B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5FD4-B76A-46C4-BFEA-6625FB80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5184-A7D1-467A-8078-E6644BB8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3A96-ACE9-4587-9C37-20F41951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10DD-60A7-4ABF-B791-3373E0BF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3B0A-02FB-4857-B748-06BF9DED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2FF4-BD66-4AB3-8BF4-2964AE4D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8E40-2E5F-4DA4-A88A-375857B6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6B62-6A1E-4CA0-AE5A-80E47F56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3A2D-69FB-4BFC-BB6B-87412104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88F7-D9A9-48A1-B606-2F3CEFA8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46DC-0CD9-4F4F-A5BE-6FD407EC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37FE-E1D8-43E4-81E6-30728D52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4277-CDA4-4CF1-A79B-1F3892AA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4BBC-0AE3-4925-B739-5121BDFA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10533-C5F4-4CAF-9301-B42F5AA9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31A47-2BC5-41EB-A90F-EF048126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E0350-A8D5-4139-918A-214A313A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71948-0648-454C-8EF4-7E5C6996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DD215-C950-4177-A8A4-0FE94922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B29-B218-40B5-B7FC-F51B6986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1564F-1FC5-4FEF-BCD9-76738528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A5A8B-4665-4AF1-A158-3BB8C6C1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AE2C7-AA8F-4D63-AC83-7324C09E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ABAD1-8D0C-4DD3-9AF0-D1F503DF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839B7-4F20-4FF2-8AD7-7B5690CF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A3C3E-4013-43B1-AAB0-EB9CA798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627BF-8C8C-4E6F-988A-CD58725D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B0B0E-0261-4584-8D1D-279FAFB6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AAD6A-E66C-4048-A73A-567A95FD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AEA89-9224-444A-AA13-620A7AB7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C89-AA9F-4532-874D-F4766EDC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C764C-CA57-44F1-8DAD-952696E4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C9A9E-813E-49C0-8B79-0257B5E4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76F2A-56DA-4E76-ABC3-E7F87EEB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5D24E-089B-41CC-BDF2-4E8E2F96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9DB8D-6831-4C2A-94E6-0DFE110F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8B91B-5C03-4F02-A4E0-8B579559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06189-3362-40D2-B4CA-FDF5F412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5290B-BE01-4371-903C-FC536146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9527A-9F04-449E-80D0-A5349AFD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4E5E1-17C8-45B1-BA9D-00A9D71F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061-37E0-4211-95B5-5397DC4F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F45A3-CD4E-47B9-A488-37629CDE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F2BE7-E646-432F-8627-ED0C7F91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BE82D-BAFC-48E0-AB17-13CFEFFD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9895B-5148-4AD6-850C-0B6FDD35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00B44-971B-4E83-940D-A518D32C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46B72-284A-4210-BB89-7B9CCB08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57A0C-83BC-41FC-B42B-346914C4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4A7A9-2A15-42E7-ABA1-257F328E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0E70B-F7E0-4235-B8E2-68F29ACE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96BDC-FC84-4209-B99E-5B9D2F16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8786-5FC1-4A17-8028-502199D1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DFA24-02FF-498A-9D4F-82DABBB0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DDA31-C87E-49F8-9086-D4A7B188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409EC-50FD-4DFC-B725-834378BA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CE89E-73E3-4BBA-ABEE-630613E9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7C411-6D84-4C6D-84F0-C37AA833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27FBF-F8D9-4331-862A-C2FE77BF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DE473-AB6D-430A-A9E6-72070181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3F84C-564E-456D-BF30-6BA6D48A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72BE6-645E-4B66-914E-0A0980DC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ADF31-E0EE-4249-94F2-790E461E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D700-CB43-4556-BA83-6D1335CA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20753-73C3-4AED-A08B-EED79B0D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B477C-46A3-4E24-8EBB-72BF2B1A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9B578-4C6E-4333-B108-967D7FCB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F71-9053-46E3-B4AC-97CA4AB2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C8D-5196-41F1-8E4C-561064A0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99401-89EB-4689-AEF4-43269FFEF2A4}" type="datetime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40E99-1868-4A45-81A4-B1948AF514C5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6044B-061C-47AB-989E-B22296896AD2}" type="datetime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907B9-1F14-4BA9-91D3-6390AC3569F4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ECEF5-6324-4C8E-9FD4-A0C70E0130A2}" type="datetime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4E10F-D4B7-42E8-A039-D9246B8F8358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B4C49-8C9D-4431-902B-3CDB1A7AD5EE}" type="datetime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53B59-59A0-4C4B-978A-3E4D46574637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traight Connector 6"/>
          <p:cNvSpPr/>
          <p:nvPr/>
        </p:nvSpPr>
        <p:spPr>
          <a:xfrm>
            <a:off x="503280" y="2352600"/>
            <a:ext cx="3840120" cy="1800"/>
          </a:xfrm>
          <a:prstGeom prst="line">
            <a:avLst/>
          </a:prstGeom>
          <a:ln w="6480">
            <a:solidFill>
              <a:srgbClr val="c6b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65" name="Straight Connector 7"/>
          <p:cNvSpPr/>
          <p:nvPr/>
        </p:nvSpPr>
        <p:spPr>
          <a:xfrm>
            <a:off x="4805280" y="2352600"/>
            <a:ext cx="3840120" cy="1800"/>
          </a:xfrm>
          <a:prstGeom prst="line">
            <a:avLst/>
          </a:prstGeom>
          <a:ln w="6480">
            <a:solidFill>
              <a:srgbClr val="c6b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5A902-4568-4092-9D9E-4CA0B6B9B6E8}" type="datetime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13B93-098B-4E8B-9748-F61755607B7D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84A40-323F-455E-B973-0450DA016E62}" type="datetime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7A420-0D96-46B9-B755-1BAB4E52ED14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24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" Target="slide4.xml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slide5.xml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" Target="slide6.xml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" Target="slide7.xml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" Target="slide17.xml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slide" Target="slide8.xml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slide" Target="slide19.xml"/><Relationship Id="rId25" Type="http://schemas.openxmlformats.org/officeDocument/2006/relationships/image" Target="../media/image21.png"/><Relationship Id="rId26" Type="http://schemas.openxmlformats.org/officeDocument/2006/relationships/image" Target="../media/image22.png"/><Relationship Id="rId27" Type="http://schemas.openxmlformats.org/officeDocument/2006/relationships/slide" Target="slide21.xml"/><Relationship Id="rId28" Type="http://schemas.openxmlformats.org/officeDocument/2006/relationships/image" Target="../media/image23.png"/><Relationship Id="rId2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" Target="slide9.xml"/><Relationship Id="rId11" Type="http://schemas.openxmlformats.org/officeDocument/2006/relationships/image" Target="../media/image33.png"/><Relationship Id="rId12" Type="http://schemas.openxmlformats.org/officeDocument/2006/relationships/slide" Target="slide10.xml"/><Relationship Id="rId13" Type="http://schemas.openxmlformats.org/officeDocument/2006/relationships/image" Target="../media/image34.png"/><Relationship Id="rId14" Type="http://schemas.openxmlformats.org/officeDocument/2006/relationships/slide" Target="slide11.xml"/><Relationship Id="rId15" Type="http://schemas.openxmlformats.org/officeDocument/2006/relationships/image" Target="../media/image35.png"/><Relationship Id="rId16" Type="http://schemas.openxmlformats.org/officeDocument/2006/relationships/slide" Target="slide12.xml"/><Relationship Id="rId17" Type="http://schemas.openxmlformats.org/officeDocument/2006/relationships/image" Target="../media/image36.png"/><Relationship Id="rId18" Type="http://schemas.openxmlformats.org/officeDocument/2006/relationships/slide" Target="slide13.xml"/><Relationship Id="rId19" Type="http://schemas.openxmlformats.org/officeDocument/2006/relationships/image" Target="../media/image37.png"/><Relationship Id="rId20" Type="http://schemas.openxmlformats.org/officeDocument/2006/relationships/slide" Target="slide14.xml"/><Relationship Id="rId21" Type="http://schemas.openxmlformats.org/officeDocument/2006/relationships/image" Target="../media/image38.png"/><Relationship Id="rId22" Type="http://schemas.openxmlformats.org/officeDocument/2006/relationships/slide" Target="slide15.xml"/><Relationship Id="rId23" Type="http://schemas.openxmlformats.org/officeDocument/2006/relationships/image" Target="../media/image39.png"/><Relationship Id="rId24" Type="http://schemas.openxmlformats.org/officeDocument/2006/relationships/image" Target="../media/image40.png"/><Relationship Id="rId25" Type="http://schemas.openxmlformats.org/officeDocument/2006/relationships/image" Target="../media/image41.pn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itle 1" descr=""/>
          <p:cNvPicPr/>
          <p:nvPr/>
        </p:nvPicPr>
        <p:blipFill>
          <a:blip r:embed="rId2"/>
          <a:stretch/>
        </p:blipFill>
        <p:spPr>
          <a:xfrm>
            <a:off x="493560" y="1365120"/>
            <a:ext cx="8156880" cy="1560600"/>
          </a:xfrm>
          <a:prstGeom prst="rect">
            <a:avLst/>
          </a:prstGeom>
          <a:ln w="0">
            <a:noFill/>
          </a:ln>
        </p:spPr>
      </p:pic>
      <p:pic>
        <p:nvPicPr>
          <p:cNvPr id="249" name="Subtitle 2" descr=""/>
          <p:cNvPicPr/>
          <p:nvPr/>
        </p:nvPicPr>
        <p:blipFill>
          <a:blip r:embed="rId3"/>
          <a:stretch/>
        </p:blipFill>
        <p:spPr>
          <a:xfrm>
            <a:off x="493560" y="2706840"/>
            <a:ext cx="815688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2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PURPOSE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09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3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SPEECH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12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4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ACTION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15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5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LIVING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18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3"/>
          <a:stretch/>
        </p:blipFill>
        <p:spPr>
          <a:xfrm>
            <a:off x="5500800" y="1332000"/>
            <a:ext cx="1066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6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EFFORT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22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7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THINKING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25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8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MEDITATION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28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Buddhism Religion is Where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outh Asia was the birthplace of Buddhism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2498760" y="3849840"/>
            <a:ext cx="1625400" cy="1574640"/>
          </a:xfrm>
          <a:prstGeom prst="rect">
            <a:avLst/>
          </a:prstGeom>
          <a:ln w="0">
            <a:noFill/>
          </a:ln>
        </p:spPr>
      </p:pic>
      <p:pic>
        <p:nvPicPr>
          <p:cNvPr id="332" name="Action Button: Home 5" descr=""/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  <p:pic>
        <p:nvPicPr>
          <p:cNvPr id="333" name="Action Button: Custom 6" descr=""/>
          <p:cNvPicPr/>
          <p:nvPr/>
        </p:nvPicPr>
        <p:blipFill>
          <a:blip r:embed="rId4"/>
          <a:stretch/>
        </p:blipFill>
        <p:spPr>
          <a:xfrm>
            <a:off x="2432160" y="3803760"/>
            <a:ext cx="17557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309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Buddhism Religion Spread Across Asia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98600" y="1899720"/>
            <a:ext cx="81468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roughout the years, Buddhism spread across Asia and Buddhism wasn’t just a religion practiced in South Asia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36" name="Action Button: Home 3" descr=""/>
          <p:cNvPicPr/>
          <p:nvPr/>
        </p:nvPicPr>
        <p:blipFill>
          <a:blip r:embed="rId2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89e4d"/>
                </a:solidFill>
                <a:latin typeface="Book Antiqua"/>
              </a:rPr>
              <a:t>What Did Buddhism Bring To Asia? 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Buddhism brought the ideas of the “Fourth Noble Truths”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39" name="Picture 4" descr=""/>
          <p:cNvPicPr/>
          <p:nvPr/>
        </p:nvPicPr>
        <p:blipFill>
          <a:blip r:embed="rId2"/>
          <a:stretch/>
        </p:blipFill>
        <p:spPr>
          <a:xfrm>
            <a:off x="6620040" y="4119480"/>
            <a:ext cx="660240" cy="1625760"/>
          </a:xfrm>
          <a:prstGeom prst="rect">
            <a:avLst/>
          </a:prstGeom>
          <a:ln w="0">
            <a:noFill/>
          </a:ln>
        </p:spPr>
      </p:pic>
      <p:pic>
        <p:nvPicPr>
          <p:cNvPr id="340" name="Action Button: Custom 5" descr=""/>
          <p:cNvPicPr/>
          <p:nvPr/>
        </p:nvPicPr>
        <p:blipFill>
          <a:blip r:embed="rId3"/>
          <a:stretch/>
        </p:blipFill>
        <p:spPr>
          <a:xfrm>
            <a:off x="6553080" y="4078440"/>
            <a:ext cx="792360" cy="1755720"/>
          </a:xfrm>
          <a:prstGeom prst="rect">
            <a:avLst/>
          </a:prstGeom>
          <a:ln w="0">
            <a:noFill/>
          </a:ln>
        </p:spPr>
      </p:pic>
      <p:pic>
        <p:nvPicPr>
          <p:cNvPr id="341" name="Action Button: Home 6" descr=""/>
          <p:cNvPicPr/>
          <p:nvPr/>
        </p:nvPicPr>
        <p:blipFill>
          <a:blip r:embed="rId4"/>
          <a:stretch/>
        </p:blipFill>
        <p:spPr>
          <a:xfrm>
            <a:off x="7523280" y="5450040"/>
            <a:ext cx="8888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7230960" y="1311120"/>
            <a:ext cx="1666800" cy="1893960"/>
          </a:xfrm>
          <a:prstGeom prst="rect">
            <a:avLst/>
          </a:prstGeom>
          <a:ln w="0">
            <a:noFill/>
          </a:ln>
        </p:spPr>
      </p:pic>
      <p:pic>
        <p:nvPicPr>
          <p:cNvPr id="251" name="Action Button: Custom 4" descr=""/>
          <p:cNvPicPr/>
          <p:nvPr/>
        </p:nvPicPr>
        <p:blipFill>
          <a:blip r:embed="rId3"/>
          <a:stretch/>
        </p:blipFill>
        <p:spPr>
          <a:xfrm>
            <a:off x="7162920" y="1262160"/>
            <a:ext cx="1798560" cy="2030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4"/>
          <a:stretch/>
        </p:blipFill>
        <p:spPr>
          <a:xfrm>
            <a:off x="3513240" y="5268960"/>
            <a:ext cx="1898640" cy="1292040"/>
          </a:xfrm>
          <a:prstGeom prst="rect">
            <a:avLst/>
          </a:prstGeom>
          <a:ln w="0">
            <a:noFill/>
          </a:ln>
        </p:spPr>
      </p:pic>
      <p:pic>
        <p:nvPicPr>
          <p:cNvPr id="253" name="Action Button: Custom 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44840" y="5224320"/>
            <a:ext cx="2102040" cy="1425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"/>
          <p:cNvPicPr/>
          <p:nvPr/>
        </p:nvPicPr>
        <p:blipFill>
          <a:blip r:embed="rId7"/>
          <a:stretch/>
        </p:blipFill>
        <p:spPr>
          <a:xfrm>
            <a:off x="409680" y="3983040"/>
            <a:ext cx="1230120" cy="2571840"/>
          </a:xfrm>
          <a:prstGeom prst="rect">
            <a:avLst/>
          </a:prstGeom>
          <a:ln w="0">
            <a:noFill/>
          </a:ln>
        </p:spPr>
      </p:pic>
      <p:pic>
        <p:nvPicPr>
          <p:cNvPr id="255" name="Action Button: Custom 10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41280" y="3938760"/>
            <a:ext cx="1359000" cy="2711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3" descr=""/>
          <p:cNvPicPr/>
          <p:nvPr/>
        </p:nvPicPr>
        <p:blipFill>
          <a:blip r:embed="rId10"/>
          <a:stretch/>
        </p:blipFill>
        <p:spPr>
          <a:xfrm>
            <a:off x="6254640" y="4257720"/>
            <a:ext cx="1414440" cy="2023920"/>
          </a:xfrm>
          <a:prstGeom prst="rect">
            <a:avLst/>
          </a:prstGeom>
          <a:ln w="0">
            <a:noFill/>
          </a:ln>
        </p:spPr>
      </p:pic>
      <p:pic>
        <p:nvPicPr>
          <p:cNvPr id="257" name="Action Button: Custom 14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188040" y="4211640"/>
            <a:ext cx="1541520" cy="2158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6" descr=""/>
          <p:cNvPicPr/>
          <p:nvPr/>
        </p:nvPicPr>
        <p:blipFill>
          <a:blip r:embed="rId13"/>
          <a:stretch/>
        </p:blipFill>
        <p:spPr>
          <a:xfrm>
            <a:off x="5289480" y="878040"/>
            <a:ext cx="933480" cy="7412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20"/>
          <p:cNvSpPr/>
          <p:nvPr/>
        </p:nvSpPr>
        <p:spPr>
          <a:xfrm>
            <a:off x="4673520" y="1619280"/>
            <a:ext cx="223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02c24"/>
                </a:solidFill>
                <a:latin typeface="Book Antiqua"/>
              </a:rPr>
              <a:t>WANTS</a:t>
            </a:r>
            <a:endParaRPr b="0" lang="en-US" sz="4400" spc="-1" strike="noStrike">
              <a:solidFill>
                <a:srgbClr val="302c24"/>
              </a:solidFill>
              <a:latin typeface="Book Antiqua"/>
            </a:endParaRPr>
          </a:p>
        </p:txBody>
      </p:sp>
      <p:pic>
        <p:nvPicPr>
          <p:cNvPr id="260" name="Action Button: Custom 22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602240" y="762120"/>
            <a:ext cx="2298600" cy="1712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3" descr=""/>
          <p:cNvPicPr/>
          <p:nvPr/>
        </p:nvPicPr>
        <p:blipFill>
          <a:blip r:embed="rId16"/>
          <a:stretch/>
        </p:blipFill>
        <p:spPr>
          <a:xfrm>
            <a:off x="409680" y="217440"/>
            <a:ext cx="1500120" cy="1844640"/>
          </a:xfrm>
          <a:prstGeom prst="rect">
            <a:avLst/>
          </a:prstGeom>
          <a:ln w="0">
            <a:noFill/>
          </a:ln>
        </p:spPr>
      </p:pic>
      <p:pic>
        <p:nvPicPr>
          <p:cNvPr id="262" name="Action Button: Custom 24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360360" y="176040"/>
            <a:ext cx="1676520" cy="2024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5" descr=""/>
          <p:cNvPicPr/>
          <p:nvPr/>
        </p:nvPicPr>
        <p:blipFill>
          <a:blip r:embed="rId19"/>
          <a:stretch/>
        </p:blipFill>
        <p:spPr>
          <a:xfrm>
            <a:off x="3745080" y="3205080"/>
            <a:ext cx="2011320" cy="1684440"/>
          </a:xfrm>
          <a:prstGeom prst="rect">
            <a:avLst/>
          </a:prstGeom>
          <a:ln w="0">
            <a:noFill/>
          </a:ln>
        </p:spPr>
      </p:pic>
      <p:pic>
        <p:nvPicPr>
          <p:cNvPr id="264" name="Action Button: Custom 26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3676680" y="3164040"/>
            <a:ext cx="2144520" cy="1815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9" descr=""/>
          <p:cNvPicPr/>
          <p:nvPr/>
        </p:nvPicPr>
        <p:blipFill>
          <a:blip r:embed="rId22"/>
          <a:stretch/>
        </p:blipFill>
        <p:spPr>
          <a:xfrm>
            <a:off x="2376360" y="601560"/>
            <a:ext cx="1611360" cy="170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7" descr=""/>
          <p:cNvPicPr/>
          <p:nvPr/>
        </p:nvPicPr>
        <p:blipFill>
          <a:blip r:embed="rId23"/>
          <a:stretch/>
        </p:blipFill>
        <p:spPr>
          <a:xfrm>
            <a:off x="1887480" y="2583000"/>
            <a:ext cx="1625760" cy="1244520"/>
          </a:xfrm>
          <a:prstGeom prst="rect">
            <a:avLst/>
          </a:prstGeom>
          <a:ln w="0">
            <a:noFill/>
          </a:ln>
        </p:spPr>
      </p:pic>
      <p:pic>
        <p:nvPicPr>
          <p:cNvPr id="267" name="Action Button: Custom 18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1816200" y="2541600"/>
            <a:ext cx="1762200" cy="13716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9" descr=""/>
          <p:cNvPicPr/>
          <p:nvPr/>
        </p:nvPicPr>
        <p:blipFill>
          <a:blip r:embed="rId26"/>
          <a:stretch/>
        </p:blipFill>
        <p:spPr>
          <a:xfrm>
            <a:off x="2077920" y="4257720"/>
            <a:ext cx="1163880" cy="1868400"/>
          </a:xfrm>
          <a:prstGeom prst="rect">
            <a:avLst/>
          </a:prstGeom>
          <a:ln w="0">
            <a:noFill/>
          </a:ln>
        </p:spPr>
      </p:pic>
      <p:pic>
        <p:nvPicPr>
          <p:cNvPr id="269" name="Action Button: Custom 21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2011320" y="4211640"/>
            <a:ext cx="12924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89e4d"/>
                </a:solidFill>
                <a:latin typeface="Book Antiqua"/>
              </a:rPr>
              <a:t>What Did Hinduism Bring To South Asia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pic>
        <p:nvPicPr>
          <p:cNvPr id="343" name="Content Placeholder 2" descr=""/>
          <p:cNvPicPr/>
          <p:nvPr/>
        </p:nvPicPr>
        <p:blipFill>
          <a:blip r:embed="rId2"/>
          <a:stretch/>
        </p:blipFill>
        <p:spPr>
          <a:xfrm>
            <a:off x="493560" y="1755720"/>
            <a:ext cx="8156880" cy="4376880"/>
          </a:xfrm>
          <a:prstGeom prst="rect">
            <a:avLst/>
          </a:prstGeom>
          <a:ln w="0">
            <a:noFill/>
          </a:ln>
        </p:spPr>
      </p:pic>
      <p:pic>
        <p:nvPicPr>
          <p:cNvPr id="344" name="Action Button: Home 3" descr=""/>
          <p:cNvPicPr/>
          <p:nvPr/>
        </p:nvPicPr>
        <p:blipFill>
          <a:blip r:embed="rId3"/>
          <a:stretch/>
        </p:blipFill>
        <p:spPr>
          <a:xfrm>
            <a:off x="7523280" y="5376960"/>
            <a:ext cx="89532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Asoka Who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Asoka was a Hindu General who was one of the greatest rulers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He taught all of the beliefs and stressed religious toleration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Book Antiqua"/>
              </a:rPr>
              <a:t>Buddha</a:t>
            </a:r>
            <a:endParaRPr b="0" lang="en-US" sz="6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60440" y="1828800"/>
            <a:ext cx="77198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d6452"/>
                </a:solidFill>
                <a:latin typeface="Chalkduster"/>
                <a:ea typeface="Chalkduster"/>
              </a:rPr>
              <a:t>The name Buddha means </a:t>
            </a:r>
            <a:r>
              <a:rPr b="0" i="1" lang="en-US" sz="2000" spc="-1" strike="noStrike">
                <a:solidFill>
                  <a:srgbClr val="6d6452"/>
                </a:solidFill>
                <a:latin typeface="Chalkduster"/>
                <a:ea typeface="Chalkduster"/>
              </a:rPr>
              <a:t>“The Enlightened One” Siddhartha Gautama was called Buddha because he knew a lot about how to live a good life.</a:t>
            </a:r>
            <a:endParaRPr b="0" lang="en-US" sz="20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72" name="Action Button: Home 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BUDDHISM Religion Today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InaiMathi"/>
                <a:ea typeface="InaiMathi"/>
              </a:rPr>
              <a:t>Today, there are still over 300 million people still worship Buddha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InaiMathi"/>
                <a:ea typeface="InaiMathi"/>
              </a:rPr>
              <a:t>There are many different practices of Buddhism today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75" name="Action Button: Hom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First," Four Noble Truth”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452"/>
                </a:solidFill>
                <a:latin typeface="Chalkboard"/>
                <a:ea typeface="Chalkboard"/>
              </a:rPr>
              <a:t>Everything in life is sad or sorrowful. </a:t>
            </a: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78" name="Action Button: Hom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Second, “Four Noble Truth”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Apple Casual"/>
                <a:ea typeface="Apple Casual"/>
              </a:rPr>
              <a:t>The cause of sadness, or sorrow, is desire and attachment. People seek joys that lead to suffering. 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81" name="Action Button: Hom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Third," Four Noble Truth”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American Typewriter"/>
                <a:ea typeface="American Typewriter"/>
              </a:rPr>
              <a:t>The way to end all pain is to end all wants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84" name="Action Button: Hom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Fourth, “Four Noble Truth”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o stop sorrow you must follow the Eight Fold Path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1400040" y="3468600"/>
            <a:ext cx="411120" cy="1386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3"/>
          <a:stretch/>
        </p:blipFill>
        <p:spPr>
          <a:xfrm>
            <a:off x="2158920" y="3524400"/>
            <a:ext cx="803520" cy="1274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"/>
          <p:cNvPicPr/>
          <p:nvPr/>
        </p:nvPicPr>
        <p:blipFill>
          <a:blip r:embed="rId4"/>
          <a:stretch/>
        </p:blipFill>
        <p:spPr>
          <a:xfrm>
            <a:off x="3274920" y="3502080"/>
            <a:ext cx="703440" cy="1297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"/>
          <p:cNvPicPr/>
          <p:nvPr/>
        </p:nvPicPr>
        <p:blipFill>
          <a:blip r:embed="rId5"/>
          <a:stretch/>
        </p:blipFill>
        <p:spPr>
          <a:xfrm>
            <a:off x="4202280" y="3468600"/>
            <a:ext cx="804600" cy="14083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"/>
          <p:cNvPicPr/>
          <p:nvPr/>
        </p:nvPicPr>
        <p:blipFill>
          <a:blip r:embed="rId6"/>
          <a:stretch/>
        </p:blipFill>
        <p:spPr>
          <a:xfrm>
            <a:off x="5257800" y="3502080"/>
            <a:ext cx="890640" cy="1430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"/>
          <p:cNvPicPr/>
          <p:nvPr/>
        </p:nvPicPr>
        <p:blipFill>
          <a:blip r:embed="rId7"/>
          <a:stretch/>
        </p:blipFill>
        <p:spPr>
          <a:xfrm>
            <a:off x="6373800" y="3559320"/>
            <a:ext cx="939960" cy="1401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"/>
          <p:cNvPicPr/>
          <p:nvPr/>
        </p:nvPicPr>
        <p:blipFill>
          <a:blip r:embed="rId8"/>
          <a:stretch/>
        </p:blipFill>
        <p:spPr>
          <a:xfrm>
            <a:off x="7601040" y="3502080"/>
            <a:ext cx="1044360" cy="1458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"/>
          <p:cNvPicPr/>
          <p:nvPr/>
        </p:nvPicPr>
        <p:blipFill>
          <a:blip r:embed="rId9"/>
          <a:stretch/>
        </p:blipFill>
        <p:spPr>
          <a:xfrm>
            <a:off x="272880" y="3468600"/>
            <a:ext cx="912960" cy="1281240"/>
          </a:xfrm>
          <a:prstGeom prst="rect">
            <a:avLst/>
          </a:prstGeom>
          <a:ln w="0">
            <a:noFill/>
          </a:ln>
        </p:spPr>
      </p:pic>
      <p:pic>
        <p:nvPicPr>
          <p:cNvPr id="295" name="Action Button: Custom 14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08080" y="3425760"/>
            <a:ext cx="1041120" cy="1463760"/>
          </a:xfrm>
          <a:prstGeom prst="rect">
            <a:avLst/>
          </a:prstGeom>
          <a:ln w="0">
            <a:noFill/>
          </a:ln>
        </p:spPr>
      </p:pic>
      <p:pic>
        <p:nvPicPr>
          <p:cNvPr id="296" name="Action Button: Custom 15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328760" y="3425760"/>
            <a:ext cx="542880" cy="1463760"/>
          </a:xfrm>
          <a:prstGeom prst="rect">
            <a:avLst/>
          </a:prstGeom>
          <a:ln w="0">
            <a:noFill/>
          </a:ln>
        </p:spPr>
      </p:pic>
      <p:pic>
        <p:nvPicPr>
          <p:cNvPr id="297" name="Action Button: Custom 16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090880" y="3481560"/>
            <a:ext cx="933480" cy="1407960"/>
          </a:xfrm>
          <a:prstGeom prst="rect">
            <a:avLst/>
          </a:prstGeom>
          <a:ln w="0">
            <a:noFill/>
          </a:ln>
        </p:spPr>
      </p:pic>
      <p:pic>
        <p:nvPicPr>
          <p:cNvPr id="298" name="Action Button: Custom 17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206880" y="3425760"/>
            <a:ext cx="834840" cy="1463760"/>
          </a:xfrm>
          <a:prstGeom prst="rect">
            <a:avLst/>
          </a:prstGeom>
          <a:ln w="0">
            <a:noFill/>
          </a:ln>
        </p:spPr>
      </p:pic>
      <p:pic>
        <p:nvPicPr>
          <p:cNvPr id="299" name="Action Button: Custom 18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133880" y="3425760"/>
            <a:ext cx="938160" cy="1536840"/>
          </a:xfrm>
          <a:prstGeom prst="rect">
            <a:avLst/>
          </a:prstGeom>
          <a:ln w="0">
            <a:noFill/>
          </a:ln>
        </p:spPr>
      </p:pic>
      <p:pic>
        <p:nvPicPr>
          <p:cNvPr id="300" name="Action Button: Custom 19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5187960" y="3481560"/>
            <a:ext cx="1023840" cy="1541160"/>
          </a:xfrm>
          <a:prstGeom prst="rect">
            <a:avLst/>
          </a:prstGeom>
          <a:ln w="0">
            <a:noFill/>
          </a:ln>
        </p:spPr>
      </p:pic>
      <p:pic>
        <p:nvPicPr>
          <p:cNvPr id="301" name="Action Button: Custom 20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6303960" y="3517920"/>
            <a:ext cx="1071720" cy="1530360"/>
          </a:xfrm>
          <a:prstGeom prst="rect">
            <a:avLst/>
          </a:prstGeom>
          <a:ln w="0">
            <a:noFill/>
          </a:ln>
        </p:spPr>
      </p:pic>
      <p:pic>
        <p:nvPicPr>
          <p:cNvPr id="302" name="Action Button: Custom 21" descr=""/>
          <p:cNvPicPr/>
          <p:nvPr/>
        </p:nvPicPr>
        <p:blipFill>
          <a:blip r:embed="rId24"/>
          <a:stretch/>
        </p:blipFill>
        <p:spPr>
          <a:xfrm>
            <a:off x="7527960" y="3425760"/>
            <a:ext cx="1182600" cy="1622520"/>
          </a:xfrm>
          <a:prstGeom prst="rect">
            <a:avLst/>
          </a:prstGeom>
          <a:ln w="0">
            <a:noFill/>
          </a:ln>
        </p:spPr>
      </p:pic>
      <p:pic>
        <p:nvPicPr>
          <p:cNvPr id="303" name="Action Button: Home 22" descr=""/>
          <p:cNvPicPr/>
          <p:nvPr/>
        </p:nvPicPr>
        <p:blipFill>
          <a:blip r:embed="rId25"/>
          <a:stretch/>
        </p:blipFill>
        <p:spPr>
          <a:xfrm>
            <a:off x="7527960" y="5553000"/>
            <a:ext cx="71424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1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KNOWLEDGE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06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8:57:01Z</dcterms:created>
  <dc:creator>Cox, Emily R</dc:creator>
  <dc:description/>
  <dc:language>en-US</dc:language>
  <cp:lastModifiedBy>Cox, Emily R</cp:lastModifiedBy>
  <cp:lastPrinted>2010-12-09T16:29:19Z</cp:lastPrinted>
  <dcterms:modified xsi:type="dcterms:W3CDTF">2010-12-21T19:11:35Z</dcterms:modified>
  <cp:revision>8</cp:revision>
  <dc:subject/>
  <dc:title>BUDDHISM</dc:title>
</cp:coreProperties>
</file>